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957-1BE1-461B-96D5-ADB8B96A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DC8-AD0C-4C13-A858-F621D60C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0D3-ECF5-4352-9BC3-5F8F251F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13C-20D2-47BF-BB8D-E534662E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7A9F-71E8-48CC-ADEC-710AEBF0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951F-008A-42E8-BC52-C54E9BC5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841C-E619-49FF-A517-176F1830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88FD-1E47-4101-B0E4-860A3710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C11D-82BE-4598-BB21-995379A1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4545-A198-4B72-B470-D1FDED92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B484-F35E-4D7C-9E54-4570D240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6117-9100-4EDA-B54C-93D81892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FB96-DA4A-4688-99DD-5A6C586D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FF4D-B738-4391-902F-0797630E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EED3-A03F-4B88-9652-F2C54401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97A5-5D0C-4C5C-AC9A-91AD6EC6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16B6-C2DE-49BF-8869-871D34A6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F50-A55A-4436-8142-9F5CA1EC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A8A-9329-47F9-BBF1-5B40E6A9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D3E-E948-456F-9CCD-833ADD52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4C9-9A5E-4BB5-A58E-B6115AA5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3081-C862-4EED-992B-829F7CD7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B44-669B-4F9E-8B01-731C4FCD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7675-5C47-40C6-BE2F-AEC2E4D8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27EF-8049-47DD-87E0-2A896C5F85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7051-0CDB-495B-940D-8C9B03968B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dia New"/>
              </a:rPr>
              <a:t>Meniul “View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dia New"/>
              </a:rPr>
              <a:t>Proiect realizat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dia New"/>
              </a:rPr>
              <a:t>Butuc Andre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dia New"/>
              </a:rPr>
              <a:t>Curelaru Lumin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dia New"/>
              </a:rPr>
              <a:t>Munteanu Fl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rdia New"/>
              </a:rPr>
              <a:t>Tipuri de vizualiza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33ff"/>
                </a:solidFill>
                <a:latin typeface="Cordia New"/>
              </a:rPr>
              <a:t>Normal View / Normal</a:t>
            </a:r>
            <a:r>
              <a:rPr b="0" lang="it-IT" sz="1800" spc="-1" strike="noStrike">
                <a:solidFill>
                  <a:srgbClr val="000000"/>
                </a:solidFill>
                <a:latin typeface="Cordia New"/>
              </a:rPr>
              <a:t> premite vizualizarea normala a diapozitiv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33ff"/>
                </a:solidFill>
                <a:latin typeface="Cordia New"/>
              </a:rPr>
              <a:t>Slide Sorter View / Sortare Diapozitive</a:t>
            </a:r>
            <a:r>
              <a:rPr b="0" lang="it-IT" sz="2000" spc="-1" strike="noStrike">
                <a:solidFill>
                  <a:srgbClr val="000000"/>
                </a:solidFill>
                <a:latin typeface="Cordia New"/>
              </a:rPr>
              <a:t>: in cadrul acestei optiuni sunt afisate toate foliile (micsorate corespunzator pe ecran) cu text si gra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2552760" cy="924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9480" y="297180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259092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6668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5146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191120" y="3657600"/>
            <a:ext cx="4495680" cy="2131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4452840" y="3973680"/>
            <a:ext cx="1381320" cy="334800"/>
          </a:xfrm>
          <a:custGeom>
            <a:avLst/>
            <a:gdLst/>
            <a:ahLst/>
            <a:rect l="l" t="t" r="r" b="b"/>
            <a:pathLst>
              <a:path w="870" h="211">
                <a:moveTo>
                  <a:pt x="0" y="144"/>
                </a:moveTo>
                <a:cubicBezTo>
                  <a:pt x="19" y="104"/>
                  <a:pt x="46" y="69"/>
                  <a:pt x="89" y="55"/>
                </a:cubicBezTo>
                <a:cubicBezTo>
                  <a:pt x="150" y="13"/>
                  <a:pt x="237" y="7"/>
                  <a:pt x="308" y="0"/>
                </a:cubicBezTo>
                <a:cubicBezTo>
                  <a:pt x="482" y="5"/>
                  <a:pt x="560" y="12"/>
                  <a:pt x="713" y="20"/>
                </a:cubicBezTo>
                <a:cubicBezTo>
                  <a:pt x="747" y="32"/>
                  <a:pt x="782" y="30"/>
                  <a:pt x="816" y="41"/>
                </a:cubicBezTo>
                <a:cubicBezTo>
                  <a:pt x="839" y="57"/>
                  <a:pt x="855" y="65"/>
                  <a:pt x="870" y="89"/>
                </a:cubicBezTo>
                <a:cubicBezTo>
                  <a:pt x="863" y="129"/>
                  <a:pt x="859" y="132"/>
                  <a:pt x="822" y="144"/>
                </a:cubicBezTo>
                <a:cubicBezTo>
                  <a:pt x="726" y="211"/>
                  <a:pt x="434" y="171"/>
                  <a:pt x="432" y="171"/>
                </a:cubicBezTo>
                <a:cubicBezTo>
                  <a:pt x="312" y="195"/>
                  <a:pt x="199" y="182"/>
                  <a:pt x="75" y="178"/>
                </a:cubicBezTo>
                <a:cubicBezTo>
                  <a:pt x="59" y="176"/>
                  <a:pt x="40" y="181"/>
                  <a:pt x="27" y="171"/>
                </a:cubicBezTo>
                <a:cubicBezTo>
                  <a:pt x="10" y="158"/>
                  <a:pt x="13" y="122"/>
                  <a:pt x="13" y="10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4876560"/>
            <a:ext cx="82296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dia New"/>
              </a:rPr>
              <a:t>Programul Microsoft PowerPoint contine meniurile: File, Edit, Insert, Format, Tools, Slide Show, Windows, Help precum si meniul pe care ne vom axa, meniul 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3915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33ff"/>
                </a:solidFill>
                <a:latin typeface="Cordia New"/>
              </a:rPr>
              <a:t>Slide Show / Expunere diapozitive.</a:t>
            </a:r>
            <a:r>
              <a:rPr b="0" lang="pt-BR" sz="2000" spc="-1" strike="noStrike">
                <a:solidFill>
                  <a:srgbClr val="000000"/>
                </a:solidFill>
                <a:latin typeface="Cordia New"/>
              </a:rPr>
              <a:t> Expunerea diapozitivelor, a prezentarii. Trecerea secventiala în revista a foliilor (clic mouse sau automat) se face începând cu folia activa. Daca se doreste începerea cu prima folie, aceasta se poate face din meniul Slide Show / Expunere diapozitive –View Show / Vizualizare Diapozitive. În timpul prezentarii, cu clic dreapta si End Show /Încheiere Expunere se opreste prezent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33ff"/>
                </a:solidFill>
                <a:latin typeface="Cordia New"/>
              </a:rPr>
              <a:t>Notes Page / Pagina de Note</a:t>
            </a:r>
            <a:r>
              <a:rPr b="0" lang="pt-BR" sz="2000" spc="-1" strike="noStrike">
                <a:solidFill>
                  <a:srgbClr val="000000"/>
                </a:solidFill>
                <a:latin typeface="Cordia New"/>
              </a:rPr>
              <a:t>. Afiseaza pagina de note a diapozitivului actual, în care se pot tasta notele prezentatorului referitoare la diapoziti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rdia New"/>
              </a:rPr>
              <a:t> </a:t>
            </a:r>
            <a:r>
              <a:rPr b="0" lang="pt-BR" sz="1800" spc="-1" strike="noStrike">
                <a:solidFill>
                  <a:srgbClr val="9933ff"/>
                </a:solidFill>
                <a:latin typeface="Cordia New"/>
              </a:rPr>
              <a:t>Outline / Schita</a:t>
            </a:r>
            <a:r>
              <a:rPr b="0" lang="pt-BR" sz="1800" spc="-1" strike="noStrike">
                <a:solidFill>
                  <a:srgbClr val="000000"/>
                </a:solidFill>
                <a:latin typeface="Cordia New"/>
              </a:rPr>
              <a:t> = harta prezentarii.Toate tipurile de vizualizare se pot accesa de pe bara aflata în stânga diapozitivului sau din meniul View / Vizualiz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4419720"/>
            <a:ext cx="4038840" cy="1915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380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876920"/>
            <a:ext cx="83844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5105520"/>
            <a:ext cx="83844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4038480"/>
            <a:ext cx="4124160" cy="1990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181480" y="4952880"/>
            <a:ext cx="1741680" cy="397080"/>
          </a:xfrm>
          <a:custGeom>
            <a:avLst/>
            <a:gdLst/>
            <a:ahLst/>
            <a:rect l="l" t="t" r="r" b="b"/>
            <a:pathLst>
              <a:path w="1097" h="250">
                <a:moveTo>
                  <a:pt x="178" y="223"/>
                </a:moveTo>
                <a:cubicBezTo>
                  <a:pt x="420" y="235"/>
                  <a:pt x="595" y="234"/>
                  <a:pt x="864" y="230"/>
                </a:cubicBezTo>
                <a:cubicBezTo>
                  <a:pt x="936" y="205"/>
                  <a:pt x="1007" y="190"/>
                  <a:pt x="1076" y="154"/>
                </a:cubicBezTo>
                <a:cubicBezTo>
                  <a:pt x="1084" y="143"/>
                  <a:pt x="1097" y="128"/>
                  <a:pt x="1097" y="113"/>
                </a:cubicBezTo>
                <a:cubicBezTo>
                  <a:pt x="1097" y="0"/>
                  <a:pt x="1014" y="43"/>
                  <a:pt x="905" y="38"/>
                </a:cubicBezTo>
                <a:cubicBezTo>
                  <a:pt x="809" y="43"/>
                  <a:pt x="713" y="50"/>
                  <a:pt x="617" y="58"/>
                </a:cubicBezTo>
                <a:cubicBezTo>
                  <a:pt x="424" y="108"/>
                  <a:pt x="226" y="108"/>
                  <a:pt x="27" y="113"/>
                </a:cubicBezTo>
                <a:cubicBezTo>
                  <a:pt x="0" y="195"/>
                  <a:pt x="83" y="178"/>
                  <a:pt x="144" y="182"/>
                </a:cubicBezTo>
                <a:cubicBezTo>
                  <a:pt x="189" y="194"/>
                  <a:pt x="213" y="216"/>
                  <a:pt x="254" y="230"/>
                </a:cubicBezTo>
                <a:cubicBezTo>
                  <a:pt x="273" y="243"/>
                  <a:pt x="285" y="250"/>
                  <a:pt x="308" y="25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33ff"/>
                </a:solidFill>
                <a:latin typeface="Cordia New"/>
              </a:rPr>
              <a:t>Scale to fit paper</a:t>
            </a:r>
            <a:r>
              <a:rPr b="0" lang="it-IT" sz="2800" spc="-1" strike="noStrike">
                <a:solidFill>
                  <a:srgbClr val="000000"/>
                </a:solidFill>
                <a:latin typeface="Cordia New"/>
              </a:rPr>
              <a:t> / Scalare pentru potrivire în pagina – La imprimare, foliile vor fidimensionate astfel încât sa se încadreze în tipul de pagina folosit pentru imprim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33ff"/>
                </a:solidFill>
                <a:latin typeface="Cordia New"/>
              </a:rPr>
              <a:t>Frame slides</a:t>
            </a:r>
            <a:r>
              <a:rPr b="0" lang="it-IT" sz="2800" spc="-1" strike="noStrike">
                <a:solidFill>
                  <a:srgbClr val="000000"/>
                </a:solidFill>
                <a:latin typeface="Cordia New"/>
              </a:rPr>
              <a:t> / Diapozitive cadru – slide-urile sunt încadrate de chen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33ff"/>
                </a:solidFill>
                <a:latin typeface="Cordia New"/>
              </a:rPr>
              <a:t> </a:t>
            </a:r>
            <a:r>
              <a:rPr b="0" lang="it-IT" sz="2800" spc="-1" strike="noStrike">
                <a:solidFill>
                  <a:srgbClr val="9933ff"/>
                </a:solidFill>
                <a:latin typeface="Cordia New"/>
              </a:rPr>
              <a:t>Include comment pages</a:t>
            </a:r>
            <a:r>
              <a:rPr b="0" lang="it-IT" sz="2800" spc="-1" strike="noStrike">
                <a:solidFill>
                  <a:srgbClr val="000000"/>
                </a:solidFill>
                <a:latin typeface="Cordia New"/>
              </a:rPr>
              <a:t> / Imprimare comentarii si marcaje cu cerneala – elementele de animatie vor fi imprimate sub forma de pictograme; vor fi incluse si comentar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33ff"/>
                </a:solidFill>
                <a:latin typeface="Cordia New"/>
              </a:rPr>
              <a:t>Print hidden slides</a:t>
            </a:r>
            <a:r>
              <a:rPr b="0" lang="it-IT" sz="2800" spc="-1" strike="noStrike">
                <a:solidFill>
                  <a:srgbClr val="000000"/>
                </a:solidFill>
                <a:latin typeface="Cordia New"/>
              </a:rPr>
              <a:t> / Imprimare diapozitive ascunse – se tiparesc si slide-urile ascu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walliaUPC"/>
              </a:rPr>
              <a:t>Alte optiuni la tipar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33ff"/>
                </a:solidFill>
                <a:latin typeface="BrowalliaUPC"/>
              </a:rPr>
              <a:t>Greyscale / Tonuri de gri</a:t>
            </a:r>
            <a:r>
              <a:rPr b="0" lang="it-IT" sz="2000" spc="-1" strike="noStrike">
                <a:solidFill>
                  <a:srgbClr val="000000"/>
                </a:solidFill>
                <a:latin typeface="BrowalliaUPC"/>
              </a:rPr>
              <a:t> – La imprimare, culorile vor fi transformate în nuante de g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33ff"/>
                </a:solidFill>
                <a:latin typeface="BrowalliaUPC"/>
              </a:rPr>
              <a:t>Pure black and white</a:t>
            </a:r>
            <a:r>
              <a:rPr b="0" lang="it-IT" sz="2000" spc="-1" strike="noStrike">
                <a:solidFill>
                  <a:srgbClr val="000000"/>
                </a:solidFill>
                <a:latin typeface="BrowalliaUPC"/>
              </a:rPr>
              <a:t> / Doar alb si negru - La imprimare, culorile vor fi transformate numai în alb si neg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33ff"/>
                </a:solidFill>
                <a:latin typeface="BrowalliaUPC"/>
              </a:rPr>
              <a:t>Color</a:t>
            </a:r>
            <a:r>
              <a:rPr b="0" lang="it-IT" sz="2000" spc="-1" strike="noStrike">
                <a:solidFill>
                  <a:srgbClr val="000000"/>
                </a:solidFill>
                <a:latin typeface="BrowalliaUPC"/>
              </a:rPr>
              <a:t>- La imprimare, diapozitivele vor fi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324480" cy="2360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23960" y="3927600"/>
            <a:ext cx="5364360" cy="1371600"/>
          </a:xfrm>
          <a:custGeom>
            <a:avLst/>
            <a:gdLst/>
            <a:ahLst/>
            <a:rect l="l" t="t" r="r" b="b"/>
            <a:pathLst>
              <a:path w="3379" h="864">
                <a:moveTo>
                  <a:pt x="136" y="324"/>
                </a:moveTo>
                <a:cubicBezTo>
                  <a:pt x="216" y="352"/>
                  <a:pt x="245" y="340"/>
                  <a:pt x="362" y="344"/>
                </a:cubicBezTo>
                <a:cubicBezTo>
                  <a:pt x="380" y="342"/>
                  <a:pt x="399" y="340"/>
                  <a:pt x="417" y="337"/>
                </a:cubicBezTo>
                <a:cubicBezTo>
                  <a:pt x="428" y="335"/>
                  <a:pt x="440" y="333"/>
                  <a:pt x="451" y="331"/>
                </a:cubicBezTo>
                <a:cubicBezTo>
                  <a:pt x="488" y="326"/>
                  <a:pt x="561" y="317"/>
                  <a:pt x="561" y="317"/>
                </a:cubicBezTo>
                <a:cubicBezTo>
                  <a:pt x="746" y="329"/>
                  <a:pt x="931" y="332"/>
                  <a:pt x="1116" y="337"/>
                </a:cubicBezTo>
                <a:cubicBezTo>
                  <a:pt x="1178" y="358"/>
                  <a:pt x="1250" y="361"/>
                  <a:pt x="1315" y="372"/>
                </a:cubicBezTo>
                <a:cubicBezTo>
                  <a:pt x="1367" y="396"/>
                  <a:pt x="1425" y="422"/>
                  <a:pt x="1473" y="454"/>
                </a:cubicBezTo>
                <a:cubicBezTo>
                  <a:pt x="1508" y="506"/>
                  <a:pt x="1461" y="444"/>
                  <a:pt x="1514" y="488"/>
                </a:cubicBezTo>
                <a:cubicBezTo>
                  <a:pt x="1520" y="493"/>
                  <a:pt x="1522" y="503"/>
                  <a:pt x="1528" y="509"/>
                </a:cubicBezTo>
                <a:cubicBezTo>
                  <a:pt x="1534" y="515"/>
                  <a:pt x="1541" y="518"/>
                  <a:pt x="1548" y="523"/>
                </a:cubicBezTo>
                <a:cubicBezTo>
                  <a:pt x="1574" y="599"/>
                  <a:pt x="1531" y="480"/>
                  <a:pt x="1569" y="564"/>
                </a:cubicBezTo>
                <a:cubicBezTo>
                  <a:pt x="1603" y="640"/>
                  <a:pt x="1566" y="570"/>
                  <a:pt x="1590" y="646"/>
                </a:cubicBezTo>
                <a:cubicBezTo>
                  <a:pt x="1598" y="671"/>
                  <a:pt x="1624" y="687"/>
                  <a:pt x="1644" y="701"/>
                </a:cubicBezTo>
                <a:cubicBezTo>
                  <a:pt x="1677" y="748"/>
                  <a:pt x="1634" y="694"/>
                  <a:pt x="1686" y="735"/>
                </a:cubicBezTo>
                <a:cubicBezTo>
                  <a:pt x="1701" y="747"/>
                  <a:pt x="1727" y="776"/>
                  <a:pt x="1727" y="776"/>
                </a:cubicBezTo>
                <a:cubicBezTo>
                  <a:pt x="1744" y="828"/>
                  <a:pt x="1873" y="815"/>
                  <a:pt x="1905" y="817"/>
                </a:cubicBezTo>
                <a:cubicBezTo>
                  <a:pt x="2078" y="853"/>
                  <a:pt x="2372" y="835"/>
                  <a:pt x="2536" y="838"/>
                </a:cubicBezTo>
                <a:cubicBezTo>
                  <a:pt x="2665" y="829"/>
                  <a:pt x="2786" y="844"/>
                  <a:pt x="2913" y="852"/>
                </a:cubicBezTo>
                <a:cubicBezTo>
                  <a:pt x="3108" y="845"/>
                  <a:pt x="3070" y="864"/>
                  <a:pt x="3180" y="811"/>
                </a:cubicBezTo>
                <a:cubicBezTo>
                  <a:pt x="3211" y="780"/>
                  <a:pt x="3247" y="753"/>
                  <a:pt x="3283" y="728"/>
                </a:cubicBezTo>
                <a:cubicBezTo>
                  <a:pt x="3315" y="681"/>
                  <a:pt x="3306" y="703"/>
                  <a:pt x="3318" y="667"/>
                </a:cubicBezTo>
                <a:cubicBezTo>
                  <a:pt x="3332" y="585"/>
                  <a:pt x="3343" y="488"/>
                  <a:pt x="3379" y="413"/>
                </a:cubicBezTo>
                <a:cubicBezTo>
                  <a:pt x="3377" y="312"/>
                  <a:pt x="3378" y="212"/>
                  <a:pt x="3372" y="111"/>
                </a:cubicBezTo>
                <a:cubicBezTo>
                  <a:pt x="3371" y="101"/>
                  <a:pt x="3358" y="59"/>
                  <a:pt x="3345" y="49"/>
                </a:cubicBezTo>
                <a:cubicBezTo>
                  <a:pt x="3330" y="37"/>
                  <a:pt x="3308" y="40"/>
                  <a:pt x="3290" y="36"/>
                </a:cubicBezTo>
                <a:cubicBezTo>
                  <a:pt x="3057" y="44"/>
                  <a:pt x="2823" y="68"/>
                  <a:pt x="2591" y="97"/>
                </a:cubicBezTo>
                <a:cubicBezTo>
                  <a:pt x="2472" y="68"/>
                  <a:pt x="2366" y="61"/>
                  <a:pt x="2241" y="56"/>
                </a:cubicBezTo>
                <a:cubicBezTo>
                  <a:pt x="1860" y="0"/>
                  <a:pt x="1466" y="62"/>
                  <a:pt x="1082" y="77"/>
                </a:cubicBezTo>
                <a:cubicBezTo>
                  <a:pt x="1035" y="72"/>
                  <a:pt x="954" y="63"/>
                  <a:pt x="911" y="63"/>
                </a:cubicBezTo>
                <a:cubicBezTo>
                  <a:pt x="846" y="63"/>
                  <a:pt x="783" y="87"/>
                  <a:pt x="719" y="91"/>
                </a:cubicBezTo>
                <a:cubicBezTo>
                  <a:pt x="664" y="95"/>
                  <a:pt x="609" y="95"/>
                  <a:pt x="554" y="97"/>
                </a:cubicBezTo>
                <a:cubicBezTo>
                  <a:pt x="493" y="118"/>
                  <a:pt x="562" y="97"/>
                  <a:pt x="417" y="97"/>
                </a:cubicBezTo>
                <a:cubicBezTo>
                  <a:pt x="346" y="97"/>
                  <a:pt x="275" y="102"/>
                  <a:pt x="204" y="104"/>
                </a:cubicBezTo>
                <a:cubicBezTo>
                  <a:pt x="171" y="116"/>
                  <a:pt x="136" y="116"/>
                  <a:pt x="102" y="125"/>
                </a:cubicBezTo>
                <a:cubicBezTo>
                  <a:pt x="88" y="129"/>
                  <a:pt x="60" y="139"/>
                  <a:pt x="60" y="139"/>
                </a:cubicBezTo>
                <a:cubicBezTo>
                  <a:pt x="31" y="168"/>
                  <a:pt x="22" y="196"/>
                  <a:pt x="12" y="235"/>
                </a:cubicBezTo>
                <a:cubicBezTo>
                  <a:pt x="14" y="267"/>
                  <a:pt x="0" y="305"/>
                  <a:pt x="19" y="331"/>
                </a:cubicBezTo>
                <a:cubicBezTo>
                  <a:pt x="33" y="350"/>
                  <a:pt x="65" y="336"/>
                  <a:pt x="88" y="337"/>
                </a:cubicBezTo>
                <a:cubicBezTo>
                  <a:pt x="125" y="338"/>
                  <a:pt x="161" y="337"/>
                  <a:pt x="198" y="33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33ff"/>
                </a:solidFill>
                <a:latin typeface="Cordia New"/>
              </a:rPr>
              <a:t>Toolbars </a:t>
            </a:r>
            <a:r>
              <a:rPr b="0" lang="it-IT" sz="2000" spc="-1" strike="noStrike">
                <a:solidFill>
                  <a:srgbClr val="000000"/>
                </a:solidFill>
                <a:latin typeface="Cordia New"/>
              </a:rPr>
              <a:t>/ Bare de instrumente – se pot introduce sau dezafecta bare de instru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33ff"/>
                </a:solidFill>
                <a:latin typeface="BrowalliaUPC"/>
              </a:rPr>
              <a:t>Zoom /Panoramare</a:t>
            </a:r>
            <a:r>
              <a:rPr b="0" lang="it-IT" sz="1800" spc="-1" strike="noStrike">
                <a:solidFill>
                  <a:srgbClr val="000000"/>
                </a:solidFill>
                <a:latin typeface="BrowalliaUPC"/>
              </a:rPr>
              <a:t> – permite marirea sau micsorarea vizualizarii paginii</a:t>
            </a:r>
            <a:r>
              <a:rPr b="0" lang="en-US" sz="2800" spc="-1" strike="noStrike">
                <a:solidFill>
                  <a:srgbClr val="000000"/>
                </a:solidFill>
                <a:latin typeface="BrowalliaUP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3124080" cy="3209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46120" y="4157640"/>
            <a:ext cx="1482840" cy="371520"/>
          </a:xfrm>
          <a:custGeom>
            <a:avLst/>
            <a:gdLst/>
            <a:ahLst/>
            <a:rect l="l" t="t" r="r" b="b"/>
            <a:pathLst>
              <a:path w="934" h="234">
                <a:moveTo>
                  <a:pt x="1" y="213"/>
                </a:moveTo>
                <a:cubicBezTo>
                  <a:pt x="3" y="160"/>
                  <a:pt x="4" y="108"/>
                  <a:pt x="8" y="55"/>
                </a:cubicBezTo>
                <a:cubicBezTo>
                  <a:pt x="9" y="42"/>
                  <a:pt x="23" y="19"/>
                  <a:pt x="35" y="14"/>
                </a:cubicBezTo>
                <a:cubicBezTo>
                  <a:pt x="61" y="4"/>
                  <a:pt x="91" y="7"/>
                  <a:pt x="118" y="0"/>
                </a:cubicBezTo>
                <a:cubicBezTo>
                  <a:pt x="306" y="5"/>
                  <a:pt x="474" y="21"/>
                  <a:pt x="659" y="28"/>
                </a:cubicBezTo>
                <a:cubicBezTo>
                  <a:pt x="741" y="38"/>
                  <a:pt x="818" y="66"/>
                  <a:pt x="899" y="76"/>
                </a:cubicBezTo>
                <a:cubicBezTo>
                  <a:pt x="906" y="78"/>
                  <a:pt x="916" y="77"/>
                  <a:pt x="920" y="83"/>
                </a:cubicBezTo>
                <a:cubicBezTo>
                  <a:pt x="929" y="95"/>
                  <a:pt x="934" y="124"/>
                  <a:pt x="934" y="124"/>
                </a:cubicBezTo>
                <a:cubicBezTo>
                  <a:pt x="932" y="135"/>
                  <a:pt x="933" y="148"/>
                  <a:pt x="927" y="158"/>
                </a:cubicBezTo>
                <a:cubicBezTo>
                  <a:pt x="922" y="166"/>
                  <a:pt x="895" y="178"/>
                  <a:pt x="886" y="179"/>
                </a:cubicBezTo>
                <a:cubicBezTo>
                  <a:pt x="830" y="188"/>
                  <a:pt x="734" y="190"/>
                  <a:pt x="687" y="192"/>
                </a:cubicBezTo>
                <a:cubicBezTo>
                  <a:pt x="639" y="208"/>
                  <a:pt x="592" y="224"/>
                  <a:pt x="543" y="234"/>
                </a:cubicBezTo>
                <a:cubicBezTo>
                  <a:pt x="382" y="220"/>
                  <a:pt x="226" y="217"/>
                  <a:pt x="63" y="213"/>
                </a:cubicBezTo>
                <a:cubicBezTo>
                  <a:pt x="12" y="196"/>
                  <a:pt x="27" y="147"/>
                  <a:pt x="15" y="103"/>
                </a:cubicBezTo>
                <a:cubicBezTo>
                  <a:pt x="0" y="50"/>
                  <a:pt x="1" y="78"/>
                  <a:pt x="1" y="5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34120" y="2971800"/>
            <a:ext cx="2419200" cy="2019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484960" y="4635360"/>
            <a:ext cx="1685880" cy="449280"/>
          </a:xfrm>
          <a:custGeom>
            <a:avLst/>
            <a:gdLst/>
            <a:ahLst/>
            <a:rect l="l" t="t" r="r" b="b"/>
            <a:pathLst>
              <a:path w="1062" h="283">
                <a:moveTo>
                  <a:pt x="1062" y="152"/>
                </a:moveTo>
                <a:cubicBezTo>
                  <a:pt x="1012" y="140"/>
                  <a:pt x="995" y="111"/>
                  <a:pt x="941" y="101"/>
                </a:cubicBezTo>
                <a:cubicBezTo>
                  <a:pt x="859" y="85"/>
                  <a:pt x="780" y="55"/>
                  <a:pt x="698" y="41"/>
                </a:cubicBezTo>
                <a:cubicBezTo>
                  <a:pt x="554" y="16"/>
                  <a:pt x="422" y="7"/>
                  <a:pt x="274" y="0"/>
                </a:cubicBezTo>
                <a:cubicBezTo>
                  <a:pt x="215" y="7"/>
                  <a:pt x="191" y="6"/>
                  <a:pt x="142" y="21"/>
                </a:cubicBezTo>
                <a:cubicBezTo>
                  <a:pt x="122" y="27"/>
                  <a:pt x="82" y="41"/>
                  <a:pt x="82" y="41"/>
                </a:cubicBezTo>
                <a:cubicBezTo>
                  <a:pt x="65" y="58"/>
                  <a:pt x="48" y="74"/>
                  <a:pt x="31" y="91"/>
                </a:cubicBezTo>
                <a:cubicBezTo>
                  <a:pt x="16" y="106"/>
                  <a:pt x="18" y="132"/>
                  <a:pt x="11" y="152"/>
                </a:cubicBezTo>
                <a:cubicBezTo>
                  <a:pt x="8" y="162"/>
                  <a:pt x="1" y="182"/>
                  <a:pt x="1" y="182"/>
                </a:cubicBezTo>
                <a:cubicBezTo>
                  <a:pt x="8" y="202"/>
                  <a:pt x="0" y="238"/>
                  <a:pt x="21" y="243"/>
                </a:cubicBezTo>
                <a:cubicBezTo>
                  <a:pt x="69" y="255"/>
                  <a:pt x="115" y="271"/>
                  <a:pt x="163" y="283"/>
                </a:cubicBezTo>
                <a:cubicBezTo>
                  <a:pt x="203" y="280"/>
                  <a:pt x="244" y="276"/>
                  <a:pt x="284" y="273"/>
                </a:cubicBezTo>
                <a:cubicBezTo>
                  <a:pt x="458" y="260"/>
                  <a:pt x="624" y="238"/>
                  <a:pt x="789" y="182"/>
                </a:cubicBezTo>
                <a:cubicBezTo>
                  <a:pt x="821" y="171"/>
                  <a:pt x="910" y="154"/>
                  <a:pt x="910" y="11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933ff"/>
                </a:solidFill>
                <a:latin typeface="BrowalliaUPC"/>
              </a:rPr>
              <a:t>Header and Footer</a:t>
            </a:r>
            <a:r>
              <a:rPr b="0" lang="it-IT" sz="1600" spc="-1" strike="noStrike">
                <a:solidFill>
                  <a:srgbClr val="000000"/>
                </a:solidFill>
                <a:latin typeface="BrowalliaUPC"/>
              </a:rPr>
              <a:t> / Antet si Subsol – se modifica antetul si subsolul. Tot de aici se poate introduce numarul slide-ului si data, care poate fi actualizata automat. Aici avem doua etiche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933ff"/>
                </a:solidFill>
                <a:latin typeface="BrowalliaUPC"/>
              </a:rPr>
              <a:t> </a:t>
            </a:r>
            <a:r>
              <a:rPr b="0" lang="it-IT" sz="1600" spc="-1" strike="noStrike">
                <a:solidFill>
                  <a:srgbClr val="9933ff"/>
                </a:solidFill>
                <a:latin typeface="BrowalliaUPC"/>
              </a:rPr>
              <a:t>Slide / Diapozitiv</a:t>
            </a:r>
            <a:r>
              <a:rPr b="0" lang="it-IT" sz="1600" spc="-1" strike="noStrike">
                <a:solidFill>
                  <a:srgbClr val="000000"/>
                </a:solidFill>
                <a:latin typeface="BrowalliaUPC"/>
              </a:rPr>
              <a:t>, în care putem bifa ( modificarile se pot aplica pentru toate diapozitivele sau pentru diapozitivul curent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rowalliaUPC"/>
              </a:rPr>
              <a:t>-data si 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rowalliaUPC"/>
              </a:rPr>
              <a:t>- numar diapozit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rowalliaUPC"/>
              </a:rPr>
              <a:t>- subs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rowalliaUPC"/>
              </a:rPr>
              <a:t>-nu se afiseaza la diapozitivul tit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933ff"/>
                </a:solidFill>
                <a:latin typeface="BrowalliaUPC"/>
              </a:rPr>
              <a:t>Notes and Handouts</a:t>
            </a:r>
            <a:r>
              <a:rPr b="0" lang="it-IT" sz="1600" spc="-1" strike="noStrike">
                <a:solidFill>
                  <a:srgbClr val="000000"/>
                </a:solidFill>
                <a:latin typeface="BrowalliaUPC"/>
              </a:rPr>
              <a:t> / Note si diapozitive imprimate (modificarile se aplica pentru toate paginile prezentarii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rowalliaUPC"/>
              </a:rPr>
              <a:t>-data si 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rowalliaUPC"/>
              </a:rPr>
              <a:t>-ant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rowalliaUPC"/>
              </a:rPr>
              <a:t>- numarul pagin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owalliaUPC"/>
              </a:rPr>
              <a:t>- subs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3809880"/>
            <a:ext cx="2744640" cy="2819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217600" y="5705640"/>
            <a:ext cx="1505160" cy="347400"/>
          </a:xfrm>
          <a:custGeom>
            <a:avLst/>
            <a:gdLst/>
            <a:ahLst/>
            <a:rect l="l" t="t" r="r" b="b"/>
            <a:pathLst>
              <a:path w="948" h="219">
                <a:moveTo>
                  <a:pt x="112" y="184"/>
                </a:moveTo>
                <a:cubicBezTo>
                  <a:pt x="140" y="196"/>
                  <a:pt x="167" y="205"/>
                  <a:pt x="194" y="219"/>
                </a:cubicBezTo>
                <a:cubicBezTo>
                  <a:pt x="362" y="213"/>
                  <a:pt x="526" y="197"/>
                  <a:pt x="694" y="191"/>
                </a:cubicBezTo>
                <a:cubicBezTo>
                  <a:pt x="741" y="185"/>
                  <a:pt x="793" y="186"/>
                  <a:pt x="838" y="171"/>
                </a:cubicBezTo>
                <a:cubicBezTo>
                  <a:pt x="852" y="166"/>
                  <a:pt x="866" y="162"/>
                  <a:pt x="880" y="157"/>
                </a:cubicBezTo>
                <a:cubicBezTo>
                  <a:pt x="887" y="155"/>
                  <a:pt x="900" y="150"/>
                  <a:pt x="900" y="150"/>
                </a:cubicBezTo>
                <a:cubicBezTo>
                  <a:pt x="922" y="128"/>
                  <a:pt x="948" y="110"/>
                  <a:pt x="928" y="75"/>
                </a:cubicBezTo>
                <a:cubicBezTo>
                  <a:pt x="911" y="44"/>
                  <a:pt x="860" y="54"/>
                  <a:pt x="825" y="47"/>
                </a:cubicBezTo>
                <a:cubicBezTo>
                  <a:pt x="738" y="29"/>
                  <a:pt x="779" y="36"/>
                  <a:pt x="701" y="27"/>
                </a:cubicBezTo>
                <a:cubicBezTo>
                  <a:pt x="596" y="0"/>
                  <a:pt x="225" y="32"/>
                  <a:pt x="160" y="33"/>
                </a:cubicBezTo>
                <a:cubicBezTo>
                  <a:pt x="111" y="43"/>
                  <a:pt x="63" y="52"/>
                  <a:pt x="16" y="68"/>
                </a:cubicBezTo>
                <a:cubicBezTo>
                  <a:pt x="5" y="100"/>
                  <a:pt x="0" y="105"/>
                  <a:pt x="16" y="150"/>
                </a:cubicBezTo>
                <a:cubicBezTo>
                  <a:pt x="17" y="152"/>
                  <a:pt x="55" y="176"/>
                  <a:pt x="57" y="177"/>
                </a:cubicBezTo>
                <a:cubicBezTo>
                  <a:pt x="70" y="183"/>
                  <a:pt x="98" y="191"/>
                  <a:pt x="98" y="191"/>
                </a:cubicBezTo>
                <a:cubicBezTo>
                  <a:pt x="105" y="196"/>
                  <a:pt x="111" y="201"/>
                  <a:pt x="118" y="205"/>
                </a:cubicBezTo>
                <a:cubicBezTo>
                  <a:pt x="125" y="208"/>
                  <a:pt x="139" y="212"/>
                  <a:pt x="139" y="2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29200" y="4343400"/>
            <a:ext cx="3905280" cy="1295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0" y="495288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rdia New"/>
              </a:rPr>
              <a:t> </a:t>
            </a:r>
            <a:r>
              <a:rPr b="0" lang="it-IT" sz="1600" spc="-1" strike="noStrike">
                <a:solidFill>
                  <a:srgbClr val="9933ff"/>
                </a:solidFill>
                <a:latin typeface="Cordia New"/>
              </a:rPr>
              <a:t>Vizualizare – Master / Coordonator – Slide Master / Coordonator de diapozitiv</a:t>
            </a:r>
            <a:r>
              <a:rPr b="0" lang="it-IT" sz="1600" spc="-1" strike="noStrike">
                <a:solidFill>
                  <a:srgbClr val="000000"/>
                </a:solidFill>
                <a:latin typeface="Cordia New"/>
              </a:rPr>
              <a:t>. Se afiseaza o fereastra cu 5 zo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rdia New"/>
              </a:rPr>
              <a:t>-zona rezervata titlul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rdia New"/>
              </a:rPr>
              <a:t>- zona obiecte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rdia New"/>
              </a:rPr>
              <a:t>-zona pentru data calendari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rdia New"/>
              </a:rPr>
              <a:t>- zona pentru subs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rdia New"/>
              </a:rPr>
              <a:t>- zona rezervata numerelor de pag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rdia New"/>
              </a:rPr>
              <a:t>Forma si aspectul tuturor diapozitivelor / slide-urilor poate fi modificat si uniformizat prin comanda</a:t>
            </a:r>
            <a:r>
              <a:rPr b="0" lang="it-IT" sz="1600" spc="-1" strike="noStrike">
                <a:solidFill>
                  <a:srgbClr val="9933ff"/>
                </a:solidFill>
                <a:latin typeface="Cordia New"/>
              </a:rPr>
              <a:t>: Master /Coordonator</a:t>
            </a:r>
            <a:r>
              <a:rPr b="0" lang="it-IT" sz="1600" spc="-1" strike="noStrike">
                <a:solidFill>
                  <a:srgbClr val="000000"/>
                </a:solidFill>
                <a:latin typeface="Cordia New"/>
              </a:rPr>
              <a:t>. De exemplu: se insereaza o imagine, o ilustratie, un obiect de desenare , o schema organizatorica, o cutie de text sau un alt obiect. </a:t>
            </a:r>
            <a:r>
              <a:rPr b="0" lang="pt-BR" sz="1600" spc="-1" strike="noStrike">
                <a:solidFill>
                  <a:srgbClr val="000000"/>
                </a:solidFill>
                <a:latin typeface="Cordia New"/>
              </a:rPr>
              <a:t>Dupa ce s-au realizat toate modificarile în coordonatorul de diapozitive, se revine la modul normal de vizualizare. Obiectele introduse în acest mod vor aparea în fiecare diapozitiv al prezentar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76520" y="4114800"/>
            <a:ext cx="5286240" cy="1533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351160" y="4397400"/>
            <a:ext cx="3432240" cy="979560"/>
          </a:xfrm>
          <a:custGeom>
            <a:avLst/>
            <a:gdLst/>
            <a:ahLst/>
            <a:rect l="l" t="t" r="r" b="b"/>
            <a:pathLst>
              <a:path w="2162" h="617">
                <a:moveTo>
                  <a:pt x="0" y="179"/>
                </a:moveTo>
                <a:cubicBezTo>
                  <a:pt x="7" y="177"/>
                  <a:pt x="15" y="177"/>
                  <a:pt x="21" y="172"/>
                </a:cubicBezTo>
                <a:cubicBezTo>
                  <a:pt x="27" y="167"/>
                  <a:pt x="27" y="155"/>
                  <a:pt x="34" y="151"/>
                </a:cubicBezTo>
                <a:cubicBezTo>
                  <a:pt x="46" y="143"/>
                  <a:pt x="76" y="137"/>
                  <a:pt x="76" y="137"/>
                </a:cubicBezTo>
                <a:cubicBezTo>
                  <a:pt x="80" y="130"/>
                  <a:pt x="83" y="122"/>
                  <a:pt x="89" y="117"/>
                </a:cubicBezTo>
                <a:cubicBezTo>
                  <a:pt x="101" y="106"/>
                  <a:pt x="130" y="89"/>
                  <a:pt x="130" y="89"/>
                </a:cubicBezTo>
                <a:cubicBezTo>
                  <a:pt x="155" y="53"/>
                  <a:pt x="193" y="54"/>
                  <a:pt x="233" y="48"/>
                </a:cubicBezTo>
                <a:cubicBezTo>
                  <a:pt x="306" y="52"/>
                  <a:pt x="369" y="55"/>
                  <a:pt x="439" y="69"/>
                </a:cubicBezTo>
                <a:cubicBezTo>
                  <a:pt x="487" y="67"/>
                  <a:pt x="535" y="67"/>
                  <a:pt x="583" y="62"/>
                </a:cubicBezTo>
                <a:cubicBezTo>
                  <a:pt x="606" y="60"/>
                  <a:pt x="652" y="48"/>
                  <a:pt x="652" y="48"/>
                </a:cubicBezTo>
                <a:cubicBezTo>
                  <a:pt x="888" y="58"/>
                  <a:pt x="1122" y="39"/>
                  <a:pt x="1358" y="35"/>
                </a:cubicBezTo>
                <a:cubicBezTo>
                  <a:pt x="1561" y="0"/>
                  <a:pt x="1755" y="49"/>
                  <a:pt x="1954" y="69"/>
                </a:cubicBezTo>
                <a:cubicBezTo>
                  <a:pt x="2005" y="103"/>
                  <a:pt x="2061" y="112"/>
                  <a:pt x="2119" y="131"/>
                </a:cubicBezTo>
                <a:cubicBezTo>
                  <a:pt x="2162" y="172"/>
                  <a:pt x="2153" y="225"/>
                  <a:pt x="2133" y="281"/>
                </a:cubicBezTo>
                <a:cubicBezTo>
                  <a:pt x="2128" y="347"/>
                  <a:pt x="2121" y="465"/>
                  <a:pt x="2057" y="508"/>
                </a:cubicBezTo>
                <a:cubicBezTo>
                  <a:pt x="2052" y="523"/>
                  <a:pt x="2048" y="537"/>
                  <a:pt x="2037" y="549"/>
                </a:cubicBezTo>
                <a:cubicBezTo>
                  <a:pt x="2020" y="567"/>
                  <a:pt x="2016" y="561"/>
                  <a:pt x="1996" y="569"/>
                </a:cubicBezTo>
                <a:cubicBezTo>
                  <a:pt x="1939" y="593"/>
                  <a:pt x="1886" y="608"/>
                  <a:pt x="1824" y="617"/>
                </a:cubicBezTo>
                <a:cubicBezTo>
                  <a:pt x="1807" y="616"/>
                  <a:pt x="1507" y="608"/>
                  <a:pt x="1468" y="604"/>
                </a:cubicBezTo>
                <a:cubicBezTo>
                  <a:pt x="1430" y="600"/>
                  <a:pt x="1406" y="582"/>
                  <a:pt x="1351" y="576"/>
                </a:cubicBezTo>
                <a:cubicBezTo>
                  <a:pt x="1310" y="565"/>
                  <a:pt x="1268" y="561"/>
                  <a:pt x="1228" y="549"/>
                </a:cubicBezTo>
                <a:cubicBezTo>
                  <a:pt x="1201" y="541"/>
                  <a:pt x="1190" y="536"/>
                  <a:pt x="1166" y="528"/>
                </a:cubicBezTo>
                <a:cubicBezTo>
                  <a:pt x="1159" y="526"/>
                  <a:pt x="1145" y="521"/>
                  <a:pt x="1145" y="521"/>
                </a:cubicBezTo>
                <a:cubicBezTo>
                  <a:pt x="1143" y="514"/>
                  <a:pt x="1141" y="507"/>
                  <a:pt x="1138" y="501"/>
                </a:cubicBezTo>
                <a:cubicBezTo>
                  <a:pt x="1134" y="494"/>
                  <a:pt x="1128" y="488"/>
                  <a:pt x="1125" y="480"/>
                </a:cubicBezTo>
                <a:cubicBezTo>
                  <a:pt x="1109" y="443"/>
                  <a:pt x="1112" y="406"/>
                  <a:pt x="1070" y="391"/>
                </a:cubicBezTo>
                <a:cubicBezTo>
                  <a:pt x="1054" y="368"/>
                  <a:pt x="1042" y="359"/>
                  <a:pt x="1015" y="350"/>
                </a:cubicBezTo>
                <a:cubicBezTo>
                  <a:pt x="967" y="278"/>
                  <a:pt x="846" y="267"/>
                  <a:pt x="768" y="254"/>
                </a:cubicBezTo>
                <a:cubicBezTo>
                  <a:pt x="658" y="216"/>
                  <a:pt x="503" y="249"/>
                  <a:pt x="391" y="254"/>
                </a:cubicBezTo>
                <a:cubicBezTo>
                  <a:pt x="331" y="266"/>
                  <a:pt x="275" y="276"/>
                  <a:pt x="213" y="281"/>
                </a:cubicBezTo>
                <a:cubicBezTo>
                  <a:pt x="121" y="312"/>
                  <a:pt x="14" y="353"/>
                  <a:pt x="14" y="24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98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98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12:49:08Z</dcterms:created>
  <dc:creator>Ioana</dc:creator>
  <dc:description/>
  <dc:language>en-US</dc:language>
  <cp:lastModifiedBy>Ioana</cp:lastModifiedBy>
  <dcterms:modified xsi:type="dcterms:W3CDTF">2013-06-05T14:03:05Z</dcterms:modified>
  <cp:revision>2</cp:revision>
  <dc:subject/>
  <dc:title>Meniul “View”</dc:title>
</cp:coreProperties>
</file>